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7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C19-095D-47C4-AD3A-6891C8A3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F921-F3DD-4D99-882E-CA8CD31C6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E995-3CCE-440A-A54B-6BB708AF4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5483-BA51-4C97-859E-BFC5DA46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B21F-0907-413C-BEA0-AF8F9BC2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7F5-F813-4DCB-AC25-09F9642D0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932-BD6D-46B7-826F-6CD38E3B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EA7-8DFB-4D26-B776-0A076A8E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0A35-4FF4-4AF5-85F3-63123538F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6956-B391-452D-AF27-2D29E70E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5FA-FEF8-467A-9E9C-B423C5DB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5FA-E640-4D98-96FF-DBEEABDA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532-5336-4B92-805C-95EF86D6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2FC-430F-45BE-AA4C-A30F6903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08D8-4D68-442C-9297-9440F6A4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67FF-1A9F-4EF8-9F7B-0F68B60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29F9-110F-46B4-941F-6BB38A5D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740-B3A0-41DC-823F-2F2AE2DA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6B9C-665A-4E16-A352-9E405D7D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A2B-A63C-4314-AA0B-0D3AD55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A003-9459-4966-BA48-2E13E08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05B-DD02-4BB0-BDB2-FA4EE495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00D-F99B-4CA2-BF07-ECE1C7A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FD73-1385-426E-B21D-76FE716B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E507-BFB6-43B1-BF3F-FCA1D2C5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F8BE-080B-45C7-80A2-25815EA8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5DB9-86C7-4FD1-BA9C-157B50AF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633-69AE-4A88-919D-FBA9D209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F92-8BF4-4DCF-88A3-C3969E16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680-E0B9-4AF9-8A1C-B0D0DCB4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DCD-E291-4243-BB76-EFE3AC21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F0F-432F-43B4-AE34-8848044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B6C-458E-45DA-9BC5-5A8F30D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BA5-E53C-42C4-9ADF-56B7E2F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09,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2EED-65E1-44C1-8297-AD5D25F8DF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0658-2CC1-4D0E-BE65-81D72C8DF0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6040" y="19414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С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ИНТЕРНА МЕДИЦИНА СА НЕГОМ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r>
              <a:rPr b="1" lang="sl-SI" sz="2800" spc="-1" strike="noStrike">
                <a:solidFill>
                  <a:srgbClr val="7030a0"/>
                </a:solidFill>
                <a:latin typeface="Arial"/>
              </a:rPr>
              <a:t>БОЛЕСТИ ХИПОФИЗЕ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СТРУМА, ТИРЕОИДИТИС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, ТУМОРИ ШТИТАСТЕ ЖЛЕЗДЕ.</a:t>
            </a:r>
            <a:br>
              <a:rPr sz="2800"/>
            </a:b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ПАРАТИРЕОИДНЕ ЖЛЕЗДЕ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олета Младе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</a:rPr>
              <a:t>БОЛЕСТИ АДЕНОХИПОФИ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04480" y="1337760"/>
            <a:ext cx="893916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суфицијенциј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а (изоловани дефицит хормона аденохипофизе - парцијални хипопитуитар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уна (панхипопитуитар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торни (функционални, доводе до хипер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секреторни (нефункционални, могу довести до хипо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Hypopitaitaris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3840" y="1600200"/>
            <a:ext cx="875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лимични или потпуни недостатак хормон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ција хормона хипофиз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 хормонског испада у хипопитуитариз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H ►►FSH/LH ►► ТSH ►►АC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спољавање зависи 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е наста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рсте хормона који недост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Узрок 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hypopituitarism</a:t>
            </a:r>
            <a:r>
              <a:rPr b="1" i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-а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у склопу других болести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2880" y="1600200"/>
            <a:ext cx="841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а гла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утоимуно запаљењ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phys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аркт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ehan’s syndr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 мозга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030a0"/>
                </a:solidFill>
                <a:latin typeface="Arial"/>
                <a:ea typeface="Arial"/>
              </a:rPr>
              <a:t>СИМПТОМИ И ЗН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pituitar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је често прогресиван. Симптоми и знаци се могу појавити изненада, обично се постепено развијаjу, варирају у зависности који од хормона недостаје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нек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ја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супти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 превидети месе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чак год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а толеранција стр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чн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тежине или добит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ад апет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Диабетес инсипид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99540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недостатка стварања и/или ефекат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доводи до стварања велике запремине урина ниске осмоларности. K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 ИД 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пособност концентрисања ури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1.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оталамусни (централни) 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фрогени (периферни) тип: неосетљивост бубрежних каналића н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ретко обољење, преваленца 1:25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, 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ски, тумори, инфекције, траума, зрачење, инфламац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Диабетес инсипид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887040"/>
            <a:ext cx="914400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иурија (5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0 л/дан), никтурија, урин светле боје, полидипсија, хипертона дехидратација (хиперосмоларност, хипернатриемија) уз хипоосмоларни ур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специфична тежина (&lt;1010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моларност (&lt;290мОсм) урина; повећана осмоларност пла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а дијагноз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: психогена полидип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Тест дехидратациј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жеђањ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Ртг селе турцике, ЦТ и НМР селарне ре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r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змопреси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DDV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нтраназално 10-20 мцг два пута дневно или с.ц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1-4 мцг дне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ер о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лорпропамид 200-500 мг дневно и карбамазепин 400-600 мг дневно (за блаже облике – парцијални дефици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азидни диуретици (за перифе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нефрог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тип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</a:rPr>
              <a:t>ТУМОРИ АДЕНОХИПОФИ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3440" y="1447920"/>
            <a:ext cx="898056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хипо и хиперпитуитар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Чине око 10% интракранијалних неоплаз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микро (&lt;10мм) и макроаденоми (&gt;10м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оноклоналног порекла, аутономне секре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 хормони: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TSH, LH, F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лурихормонална секреција: комбинација 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T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елови хормона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гликопротеин (субједи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Спорад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 у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оквиру генетских синдр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1: ген МЕНИН (Ту хипофизе, паратироидеа, острвца панкреас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ИСФУНКЦИЈА АДЕНОХИПОФИ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4080" y="1268280"/>
            <a:ext cx="8758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ertas praec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thyreosis se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prolacti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megalia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gantis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corticismus sec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М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hing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Hyperprolactinemia</a:t>
            </a: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490400"/>
            <a:ext cx="91440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кр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лошка по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ћелија хипофизе које продукују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пролактин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о: Вишак естроген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имарна хипотиреоз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ренал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ролактином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0000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:м - 20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е, поремећај видног п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 менструације (олиго до аменореја), инфертилитет, галакто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бида и сексуална дис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Хиперпрола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к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тинеми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j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одређивање нивоа ПРЛ у дневном профилу (неколико дана мора да буде без лекова који могу довести 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↑ПРЛ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lometol, ranitidin, neurolept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пласира браунила, одређује се у 8, 11 и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ЦТ је мање сензитива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паминергици дугог дејства, лечење око 4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омокрипт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за време оброка, постеп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1.25 мг/дан, максимално15мг/дан (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оз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по препарат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lod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на 4 недељ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stinex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беголин (0,5 до 1,0мг, два пута недељно) има добру поднош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nagolide, Pergolide, Lisu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1680" y="537840"/>
            <a:ext cx="84423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и систем који одрж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билном унутрашњу средину упркос потенцијалним поремећа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који долазе било из спољне било из унутрашње среди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Violeta\Desktop\Endocrine-Glands-Diagram.jpg"/>
          <p:cNvPicPr/>
          <p:nvPr/>
        </p:nvPicPr>
        <p:blipFill>
          <a:blip r:embed="rId1"/>
          <a:stretch/>
        </p:blipFill>
        <p:spPr>
          <a:xfrm>
            <a:off x="1055520" y="2567160"/>
            <a:ext cx="6780240" cy="38764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orbus Cushing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191960"/>
            <a:ext cx="89488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кортикотропних ћелија аденохипофизе који доводи до повећане продук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ичног хиперкортицизма (ређе ектопич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к 70% од свих случајева хиперкортицизм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-15% свих тумора хипофиз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моноклонално порекло ту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orbus Cus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473040" y="691920"/>
            <a:ext cx="96170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ушингоидан аспе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центрипетална гојазност: специфични депои масти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a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 торзо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es lun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продуктивни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оремећај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губитак либида, акне, хипогонадизам (инхибиторни ефекат ГК на пулзатилно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агитирана депресија, летаргија, параноја, меморисјка и ког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исфункција, неса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остеопороза, успорен линеарни раст код де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истањена, љубичасте стрије, модрице, пурпура, акне, хирзутизам, плеторично л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слабост проксималне мускулатуре ног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и 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75% оболелих), склоност тромбоемболиз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е/ендокрине 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GT, HL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ч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Глауком, егзофталмос, хемозе и ката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orbus C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41040"/>
            <a:ext cx="914400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ртизол у 24-часовном ур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F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невн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ил кортизо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упресиони те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X screening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кодозажн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X I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0,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дозаж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X II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/6h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феноидално одклањање аденома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еуспеха и рецидива, билатерална адреналектомија (повећан ризик од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l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овог” ту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љи раст аденом хипофиз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F:\slike predavanja\01.jpg"/>
          <p:cNvPicPr/>
          <p:nvPr/>
        </p:nvPicPr>
        <p:blipFill>
          <a:blip r:embed="rId1"/>
          <a:stretch/>
        </p:blipFill>
        <p:spPr>
          <a:xfrm>
            <a:off x="609480" y="457200"/>
            <a:ext cx="3810240" cy="35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F:\slike predavanja\02.jpg"/>
          <p:cNvPicPr/>
          <p:nvPr/>
        </p:nvPicPr>
        <p:blipFill>
          <a:blip r:embed="rId2"/>
          <a:stretch/>
        </p:blipFill>
        <p:spPr>
          <a:xfrm>
            <a:off x="4419720" y="3479760"/>
            <a:ext cx="40478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ypotumoren_cushing1"/>
          <p:cNvPicPr/>
          <p:nvPr/>
        </p:nvPicPr>
        <p:blipFill>
          <a:blip r:embed="rId1"/>
          <a:stretch/>
        </p:blipFill>
        <p:spPr>
          <a:xfrm>
            <a:off x="347760" y="447840"/>
            <a:ext cx="2971800" cy="492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ypotumoren_cushing2"/>
          <p:cNvPicPr/>
          <p:nvPr/>
        </p:nvPicPr>
        <p:blipFill>
          <a:blip r:embed="rId2"/>
          <a:stretch/>
        </p:blipFill>
        <p:spPr>
          <a:xfrm>
            <a:off x="3247920" y="755640"/>
            <a:ext cx="2716200" cy="421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ypotumoren_cushing3"/>
          <p:cNvPicPr/>
          <p:nvPr/>
        </p:nvPicPr>
        <p:blipFill>
          <a:blip r:embed="rId3"/>
          <a:stretch/>
        </p:blipFill>
        <p:spPr>
          <a:xfrm>
            <a:off x="5978520" y="1409760"/>
            <a:ext cx="253044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Гигантизам и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кромегал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160" y="1044720"/>
            <a:ext cx="89074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болест која настаје као последица хиперсекре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 (након затварања епифизеалних пукотина)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игант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последица хиперсекре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д млад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вален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0/100000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тановника, инциденција 3-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1000000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хипофизе (99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&lt;1%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Non-pituitary tumou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тко, акромегалија је узрокована туморима панкреаса, плућа и надбубрежних жлезда, који доводе до виш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Гигантизам и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ромега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0680" y="1044720"/>
            <a:ext cx="862344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као последица секре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детињ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пубертету се затварају епифизне пукотине и дуге кости остају неосетљиве на дејст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аке, стопала и кости лица остају осетљиве и после пубертета, тако да настављају да расту и доводе до настанка специфичног хабиту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 и симптоми се споро развиј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инапарентан ток у дужем пери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дијагностикује након 10 година трајања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облика л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глашени супраорбитални лук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 носа и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Акромега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7840" y="1044720"/>
            <a:ext cx="88758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чан аспе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сна и груба кожа лиц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ражени набори изнад очију (фронтални синуси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урена доња 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прогнациј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ширени интердентални прос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дијастем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роглосиј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убок гла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ртропатиј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акралних делова тела (нос, уши, стопала, шак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задебљање дисталних фалан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и 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M2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о: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H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ромегалиј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8200" y="1387080"/>
            <a:ext cx="8591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 је нормализациј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GF-1/GH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клањање тумора и очување резерве осталих хормон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и: трансфеноидална екстирпација ту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ремисија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4 – 7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80% микроаденома, 40% макраденома), КИ код коморбидитета, ниво хормона се најчешће не врати у норм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 (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спор ефекат, хипопитуитаризам у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&gt;6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очног нерва, ризик од сек. малиг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но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готрајни аналози соматоста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 (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0м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.м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 4 недеље) и лантреот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друга линиј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агонист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омкрипт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тагони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egvisoma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s12c151photo01"/>
          <p:cNvPicPr/>
          <p:nvPr/>
        </p:nvPicPr>
        <p:blipFill>
          <a:blip r:embed="rId1"/>
          <a:stretch/>
        </p:blipFill>
        <p:spPr>
          <a:xfrm>
            <a:off x="250920" y="765000"/>
            <a:ext cx="4032000" cy="2311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s12c151photo02"/>
          <p:cNvPicPr/>
          <p:nvPr/>
        </p:nvPicPr>
        <p:blipFill>
          <a:blip r:embed="rId2"/>
          <a:stretch/>
        </p:blipFill>
        <p:spPr>
          <a:xfrm>
            <a:off x="4932360" y="878040"/>
            <a:ext cx="341964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acromeg1"/>
          <p:cNvPicPr/>
          <p:nvPr/>
        </p:nvPicPr>
        <p:blipFill>
          <a:blip r:embed="rId3"/>
          <a:stretch/>
        </p:blipFill>
        <p:spPr>
          <a:xfrm>
            <a:off x="949320" y="4084560"/>
            <a:ext cx="3052800" cy="1886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acromeg2"/>
          <p:cNvPicPr/>
          <p:nvPr/>
        </p:nvPicPr>
        <p:blipFill>
          <a:blip r:embed="rId4"/>
          <a:stretch/>
        </p:blipFill>
        <p:spPr>
          <a:xfrm>
            <a:off x="5154480" y="3927600"/>
            <a:ext cx="302580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95480" y="0"/>
            <a:ext cx="9491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ген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то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роф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мењена морф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т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плазија (бенигна или малиг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       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Тироидна жлез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F:\slike predavanja\1.png"/>
          <p:cNvPicPr/>
          <p:nvPr/>
        </p:nvPicPr>
        <p:blipFill>
          <a:blip r:embed="rId1"/>
          <a:stretch/>
        </p:blipFill>
        <p:spPr>
          <a:xfrm>
            <a:off x="6858000" y="457200"/>
            <a:ext cx="216864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фун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СТР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D:\Documents and Settings\Users\Violeta Mladenovic\Desktop\STRUMA\imagesDVGDMBPZ.jpg"/>
          <p:cNvPicPr/>
          <p:nvPr/>
        </p:nvPicPr>
        <p:blipFill>
          <a:blip r:embed="rId2"/>
          <a:stretch/>
        </p:blipFill>
        <p:spPr>
          <a:xfrm>
            <a:off x="7315200" y="4648320"/>
            <a:ext cx="1371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TRUMA DIFUSA SI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и поремећаји у синтези тироидних хормона (транспорт јода, синтеза ТГ, органификација Ј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спозиција струмогенима (нпр. тиоцијанати из поврћа - куп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D:\Documents and Settings\Users\Violeta Mladenovic\Desktop\STRUMA\imagesLGCOK62Z.jpg"/>
          <p:cNvPicPr/>
          <p:nvPr/>
        </p:nvPicPr>
        <p:blipFill>
          <a:blip r:embed="rId1"/>
          <a:stretch/>
        </p:blipFill>
        <p:spPr>
          <a:xfrm>
            <a:off x="5943600" y="5187960"/>
            <a:ext cx="320040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TRUMA NODOSA (uninodosa, pol</a:t>
            </a:r>
            <a:r>
              <a:rPr b="1" i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nodo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тоанатом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до 12% популације, чешће код же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а расте са годинама стар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D:\Documents and Settings\Users\Violeta Mladenovic\Desktop\STRUMA\imagesRBOKJWUB.jpg"/>
          <p:cNvPicPr/>
          <p:nvPr/>
        </p:nvPicPr>
        <p:blipFill>
          <a:blip r:embed="rId1"/>
          <a:stretch/>
        </p:blipFill>
        <p:spPr>
          <a:xfrm>
            <a:off x="5943600" y="4419720"/>
            <a:ext cx="2590920" cy="185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Documents and Settings\Users\Violeta Mladenovic\Desktop\STRUMA\imagesWPBCTOVS.jpg"/>
          <p:cNvPicPr/>
          <p:nvPr/>
        </p:nvPicPr>
        <p:blipFill>
          <a:blip r:embed="rId2"/>
          <a:stretch/>
        </p:blipFill>
        <p:spPr>
          <a:xfrm>
            <a:off x="380880" y="4191120"/>
            <a:ext cx="1819440" cy="2504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D:\Documents and Settings\Users\Violeta Mladenovic\Desktop\STRUMA\STR.png"/>
          <p:cNvPicPr/>
          <p:nvPr/>
        </p:nvPicPr>
        <p:blipFill>
          <a:blip r:embed="rId3"/>
          <a:stretch/>
        </p:blipFill>
        <p:spPr>
          <a:xfrm>
            <a:off x="2743200" y="441972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ИРЕОИДИТИСИ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Акутни тиреоид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ктерије, гљивице, радијација након примене Ј131, лекови (амиодар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хтева примену антибиотика и хируршки трет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Documents and Settings\Users\Violeta Mladenovic\Desktop\STRUMA\images7JRGBXZK.jpg"/>
          <p:cNvPicPr/>
          <p:nvPr/>
        </p:nvPicPr>
        <p:blipFill>
          <a:blip r:embed="rId1"/>
          <a:stretch/>
        </p:blipFill>
        <p:spPr>
          <a:xfrm>
            <a:off x="7086600" y="4800600"/>
            <a:ext cx="1752480" cy="188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Violeta\Desktop\imagesC4IMR09B.jpg"/>
          <p:cNvPicPr/>
          <p:nvPr/>
        </p:nvPicPr>
        <p:blipFill>
          <a:blip r:embed="rId2"/>
          <a:stretch/>
        </p:blipFill>
        <p:spPr>
          <a:xfrm>
            <a:off x="380880" y="46483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Documents and Settings\Users\Violeta Mladenovic\Desktop\STRUMA\imagesCVTOOJZT.jpg"/>
          <p:cNvPicPr/>
          <p:nvPr/>
        </p:nvPicPr>
        <p:blipFill>
          <a:blip r:embed="rId3"/>
          <a:stretch/>
        </p:blipFill>
        <p:spPr>
          <a:xfrm>
            <a:off x="3687840" y="4670280"/>
            <a:ext cx="246852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(</a:t>
            </a:r>
            <a:r>
              <a:rPr b="1" i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de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Quervain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 изазвано вируси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с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 фаза опоравка уз развој транзиторне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грирајући бол у врату, повишена температур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озитиван биохуморални синдром запаљења (СЕ, ЦРП, фибриноген, леукоцитоз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тироидних хормона уз супримиран ТСХ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мировање, одмор, НСАИЛ, понекад Г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 тиреоидитис у склопу М. Гравес, обично праћен хипертиреоидиз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зитивна  ТПО 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 дијететски реж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 се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ениг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лиг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(анапластич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Ц-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ог нее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лног порек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лико је чест рак штитасте жлезд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цином штитасте жлезде је најчешћи карцином ендокри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и представља око 2% свих карцинома 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људ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рој оболелих је у сталном порасту широм света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ње три децен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наредних пет година у Срб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ће од тироидног карцинома оболети око 1.200 стано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вишеструко чешће оболевају него мушкарци, 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ије утврђено из ког разл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Марковић, Рак  штитасте жлезде:Дијагностика и лечење. Београд, 201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3582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ОДРЕЂИВАЊЕ НИВОА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И СТА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D:\Documents and Settings\Users\Violeta Mladenovic\Desktop\slike DM\SLIKE MEDICINA\fig30.jpg"/>
          <p:cNvPicPr/>
          <p:nvPr/>
        </p:nvPicPr>
        <p:blipFill>
          <a:blip r:embed="rId1"/>
          <a:stretch/>
        </p:blipFill>
        <p:spPr>
          <a:xfrm>
            <a:off x="4919760" y="3983040"/>
            <a:ext cx="42242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Рак штитасте жлезде може дати различите знакове или симптом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раслина у врату која понекад расте брз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ицање у вр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ипљиви чворићи на вр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 у предњем делу врата, који се понекад ш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о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 или промене у гласу које не прол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ежано гу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и са дис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лани кашаљ који није узрокован прехла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 у штитастој жлезди који се види на тест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имањ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ниједан од ових знакова и симптома није присутан када је болест у почетном стадију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306720"/>
            <a:ext cx="8893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СТОВИ ТИРОИДНЕ 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1814400"/>
            <a:ext cx="828036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тимул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3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праћено њиховом повећаном активношћу у периферним ткивима, при чему секреција тироидних хормона више није под регулаторном контролом хипоталамо-хипофизног систе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,5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пул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7030a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7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Т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ИРЕО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ТО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КСИК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ЕРТИРЕ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ко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ури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ермоп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а (у М. Грав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D:\Documents and Settings\Users\Violeta Mladenovic\Desktop\STRUMA\images31EIRMSN.jpg"/>
          <p:cNvPicPr/>
          <p:nvPr/>
        </p:nvPicPr>
        <p:blipFill>
          <a:blip r:embed="rId1"/>
          <a:stretch/>
        </p:blipFill>
        <p:spPr>
          <a:xfrm>
            <a:off x="6400800" y="4952880"/>
            <a:ext cx="250524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:\Documents and Settings\Users\Violeta Mladenovic\Desktop\STRUMA\imagesBF074QCQ.jpg"/>
          <p:cNvPicPr/>
          <p:nvPr/>
        </p:nvPicPr>
        <p:blipFill>
          <a:blip r:embed="rId2"/>
          <a:stretch/>
        </p:blipFill>
        <p:spPr>
          <a:xfrm>
            <a:off x="4267080" y="4952880"/>
            <a:ext cx="198144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КВС и 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а потреб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к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-20% п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пулмоналног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БАЗАЛНИ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50920"/>
            <a:ext cx="91440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 није равномерна током времена, већ постоје одређење правилнос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 о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сци лучења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улсатилност у секрецији (инсулин, 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H, FSH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чно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крe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e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и ритам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, Кортизo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есeчни 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м (eстроген, прогестeroн, FSH, L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Годиш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м (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TSH, T4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екрeција у посeб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a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трес, трудноћа, пубертет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ГИ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театоре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обично код старији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ендокрини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ћелија панкреаса на глик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агонизам према периферним ефектима 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ој интолеранције глик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С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елетни систем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722240"/>
            <a:ext cx="8610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озност кортикалне к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лумен трабекуларне кос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Л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остеобл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H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псорпција и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кскреција калциј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 Grave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удружена и 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а акропатиј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и 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бљање нок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урогенитални систем</a:t>
            </a:r>
            <a:br>
              <a:rPr sz="32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ешће урин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њ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честа енуреза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93480"/>
            <a:ext cx="40384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ином м 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игоменоре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овулато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2149560"/>
            <a:ext cx="40384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99694"/>
                </a:solidFill>
                <a:latin typeface="Calibri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necomast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Не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, смањена мишићна маса и снага (нормализују се тек након 6 месец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yasthenia gravi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у склопу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 Grav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в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излагање Сун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бегавање боравка у топлим, влажним простор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ета-блокатори (у случају да су контраиндиковани – антагонисти калцију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ИРЕОСУПРЕС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ођење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е доз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ТУ 300-600 мг (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4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8 месе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шавање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Т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0-150мг (два до 3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ој неутрофила мањи од 0.5 x 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/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је о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%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(чешћа са ПТ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на је уз примену супортативне терап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наг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кутабилно је да ли рутинска контрола ККС може бити од користи (тада се саветује да се контролише на 2 недеље у првом месецу терапије, затим једном месеч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 у случају развоја изненадне фебрилности и гушобоље одмах проверити КК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967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Т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иреотоксична криза</a:t>
            </a:r>
            <a:r>
              <a:rPr b="1" lang="sl-SI" sz="2800" spc="-1" strike="noStrike">
                <a:solidFill>
                  <a:srgbClr val="7030a0"/>
                </a:solidFill>
                <a:latin typeface="Arial"/>
                <a:ea typeface="Arial"/>
              </a:rPr>
              <a:t> (“тиреотоксична олуја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„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ражава до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т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дренергич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хиперактивност, 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дукова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тре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у амбијенту 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леч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леченог хиперитир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но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%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ре појаве бета блок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 Актуелно, морталитет 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5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 пациј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-преципитишућ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1676520"/>
            <a:ext cx="8839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ДИНАМСКИ ТЕСТ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67840" y="1600200"/>
            <a:ext cx="841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ски тест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 хипофунк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ски тест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 хиперфунк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 - клиничка през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219320"/>
            <a:ext cx="89154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руш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 конфузија, ком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стру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opthal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7030a0"/>
                </a:solidFill>
                <a:latin typeface="Arial"/>
                <a:ea typeface="Arial"/>
              </a:rPr>
              <a:t>ЦНС манифес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нем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моционал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збуњ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сих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пат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па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КАРДИОВАСКУЛАРНЕ МАНИФЕС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на срчана фреквенца (синусна тахикардија или атријална фибрилација), Повећана раздражљивост (АВ блок 1, степе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0" y="2224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80880" y="1371600"/>
            <a:ext cx="838224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 600-900 mg P.O или NG, затим 200-300 m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/6-8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од (&gt; 1h након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  или  20 g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ХИПОТИРЕОИДИЗ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7030a0"/>
                </a:solidFill>
                <a:latin typeface="Arial"/>
                <a:ea typeface="Arial"/>
              </a:rPr>
              <a:t>ЕТИОЛОШКА ПО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об (старији од 50), пол: женски, гојазност, Операција тироидее, Зрачење вратне ре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на симптоматологија (несанаица, појачана раздражљивост, хиперактивно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 СИСТЕ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ИШИЋ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ИТ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уш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Users\Violeta\Desktop\images.jpg"/>
          <p:cNvPicPr/>
          <p:nvPr/>
        </p:nvPicPr>
        <p:blipFill>
          <a:blip r:embed="rId1"/>
          <a:stretch/>
        </p:blipFill>
        <p:spPr>
          <a:xfrm>
            <a:off x="1981080" y="0"/>
            <a:ext cx="4524480" cy="3413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Violeta\Desktop\Hypothyroidism.jpg"/>
          <p:cNvPicPr/>
          <p:nvPr/>
        </p:nvPicPr>
        <p:blipFill>
          <a:blip r:embed="rId2"/>
          <a:stretch/>
        </p:blipFill>
        <p:spPr>
          <a:xfrm>
            <a:off x="4267080" y="3413160"/>
            <a:ext cx="4876920" cy="339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Violeta\Desktop\images0LVWE7RC.jpg"/>
          <p:cNvPicPr/>
          <p:nvPr/>
        </p:nvPicPr>
        <p:blipFill>
          <a:blip r:embed="rId3"/>
          <a:stretch/>
        </p:blipFill>
        <p:spPr>
          <a:xfrm>
            <a:off x="0" y="3413160"/>
            <a:ext cx="424332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МИКСЕДЕМСКА 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еципитирајућ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ци и лекови са депресорним дејством на ЦН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до 23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, брадикардија, хипотензија, арефлек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лвеоларна хиповентилација, ретен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луциона хипонатри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: од агитираности (“микседемско лудило”) до ком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23832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УРГЕНТН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04920" y="1295280"/>
            <a:ext cx="861048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-250 mg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4) 500 mcg НГ или ПО, затим 5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c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Аденохипофиз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084320"/>
            <a:ext cx="91440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 се ослобађају хормони под утицајем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лобађајућ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хиб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јућ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е ствара хипопаталм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тал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с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 стварају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урос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тор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зат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им портним систе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аденохипофизе делују на друге ендокрине системе и зато се називај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оп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Хумани хормон растењ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G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соматотроп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ид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отроп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Фо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ул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рај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Лутеиниз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рај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рол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и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секреције млека из млечних жлез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Адрено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троп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тропин: Стимул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у гликокортикоида у кори над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еланоц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ituitary"/>
          <p:cNvPicPr/>
          <p:nvPr/>
        </p:nvPicPr>
        <p:blipFill>
          <a:blip r:embed="rId1"/>
          <a:stretch/>
        </p:blipFill>
        <p:spPr>
          <a:xfrm>
            <a:off x="7196040" y="3390840"/>
            <a:ext cx="135432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ЛЕК ИЗ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к се уводи постепе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ПАРАТИРЕОИДН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ar Sandström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Швеђанин, студент медиц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крио параштитасте жлез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ледњи велики орган који је идентификован код љ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ТХ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ретују  главн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араштитасте жлезде као протеин сачињен од 84 аминокисел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5" descr="Picture of the Parathyroid Glands"/>
          <p:cNvPicPr/>
          <p:nvPr/>
        </p:nvPicPr>
        <p:blipFill>
          <a:blip r:embed="rId1"/>
          <a:stretch/>
        </p:blipFill>
        <p:spPr>
          <a:xfrm>
            <a:off x="6753240" y="3962520"/>
            <a:ext cx="2390760" cy="2666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parathyroidmolecule"/>
          <p:cNvPicPr/>
          <p:nvPr/>
        </p:nvPicPr>
        <p:blipFill>
          <a:blip r:embed="rId2"/>
          <a:stretch/>
        </p:blipFill>
        <p:spPr>
          <a:xfrm>
            <a:off x="503280" y="4486320"/>
            <a:ext cx="2833560" cy="18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ара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: аденом, карцином, хиперплазија ПТЖ (хиперпродукција ПТ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: хронична хипоклациемија (физиолошки одговор - пораст продукције ПТ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продукција (ПТХ, ПТХр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резистенција периферних ткива на ПТ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псеудохипо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F:\slike predavanja\5.png"/>
          <p:cNvPicPr/>
          <p:nvPr/>
        </p:nvPicPr>
        <p:blipFill>
          <a:blip r:embed="rId1"/>
          <a:stretch/>
        </p:blipFill>
        <p:spPr>
          <a:xfrm>
            <a:off x="6400800" y="3505320"/>
            <a:ext cx="26337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356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ХПТ је стање хроничне хиперкалциемије која је резултат повећаног и неконтролисаног лучења ПТХ због хиперфункције једне или више ПТ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аденом (81%), карцином (4%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а ПТЖ  (спорадично или у оквиру МЕ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хиперкалциемија, хипофосфатемија, хиперкалциурија, снижење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4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пора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дехидратација, хиперхлоремијска ацидоза (повећано луче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CO3-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уз задржава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мишићна слабост, анорексија, повраћање, опстипација, скраћен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интерв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емоционална нестабилност, депресија, псих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убрежн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концентрациона способност (полиурија, никтурија), уролитиј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штани систе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повећана реапсорпција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иничка слик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80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асимптома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Општи симптоми и симптоми ЦНС-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ор, депресија, конфузност, заборавност, емоционална нестабилност, сомноленц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Губитак апетита, мршављење, мука, повраћање, улкусна болест, панкреатитис, опстип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УГ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позити калцијума и уролитијаза (60-70% пацијен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лиурија, полидипс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кулоза уро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струкција уро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В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краћива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нтерв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степор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већана активност остеок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већан метаболизам ко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дукција густине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182880" y="1066680"/>
            <a:ext cx="9326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г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е вредности серумско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изак или ниско-нормалан фосфат у серуму (смањена реапсорпција у проксималним тубулима), повишен клиренс фосфата, хипомагнеземија, хиперхлоремија, метаболичка ацид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25(О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рфолошка испит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лтразвучни преглед вр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цинтиграфија ПТЖ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м-тех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 сестам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Хируршка интерв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стеопороза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-s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-2.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кулоза бубре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едикаментни трет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докнада волу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акашвање калциурез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иуретици Хенлеове пет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б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мањена реапсорпција ко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лцитон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рмонска 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тоста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Секунд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ХПТ је хиперфункција свих ПТЖ због хроничне хипокалциемије (ПТЖ су примарно нормалне, али временом може доћи до њихове хиперплазиј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раст фосфата у акутној или хроничној инсуфицијенцији бубр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ГФР&lt;40мл/мин)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м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ли резистенција ткива на Витамин 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мањење апсорпције калцијума у ГИТ-у (малапсорптивни синдроми)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Хипомагнеземиј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Лекови: лаксативи, фенитоин, фенобарбитон, холестирам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сеудохипопаратиреоид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цификати у меким ткиви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раб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мене на костима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н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иј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еомалац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иски калцијум и вита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steitis fibrosa cyst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редства која везују фосфат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пституција калцијум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 његови аналоз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acalc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nsipa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ерцијал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П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стаје то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 у основи 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и више не реагује на примену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ална стимулација хипокалциемијом доводи до хиперплазије ПТЖ, а временом на том терену може да се развије аутономни аде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чешће се развија  након трансплантације бубрега када хипертрофисане ПТЖ настављају са појачаном и неконтролисаном секрециј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мена “тачке избора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уз појачање болова у костима и свраба, те појаву слабости и лаког зама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лабораторијски пораст калцијума уз ↑фосф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као и секундарни облик, али може бити индикована и хируршка интервенција (одстрањење аденоматозно измењених ПТЖ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Неурохипофиз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63720"/>
            <a:ext cx="91440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 синтетише хорм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ува и ослобађа хормоне које ствара хипоталам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ују пу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талам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ног 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цин (ОТ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и након порођаја остварује утицај на утерус и дој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ва контракцију глатких мишићних ћелија у утерус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искивање млека из млечних жлез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диурe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азопрес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количину дефинитивног урина тако што омогућава да бубрези враћају већу количину воде у крв из примарног ури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губитак воде знојењем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констрикције артериола чиме узрокује пораст крвног притис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с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хроничне хипокалциемије и хиперфосфатемије због смањене активности ПТХ збо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е синтезе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биолошки неактивног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зостанак одговора периферног ткива на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: хипокалциемија, хиперфосфатемија, пора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ПК и АЛ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: повећана неуромишићна раздражљивост (од парестезија до грчева мишића), продужен QТ интерв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их ткива (интракранијалне, очно сочи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неуроми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ћна раздраж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н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рестезије лица у пределу усан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стиј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оничне и болне контракције (“акушерска шака”, карпопедални спазам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рч дијафрагме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-епилептични напади (очувана свест), настаје спонтано или провоцирано свакодневним активностима (ходање, рад, хипервент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, стања алкалоз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атентн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vost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в зн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see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в зн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www.sistemanervoso.com/images/neurologia_clinica_aula2008/resumo_geral05.jpg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3543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www.nejm.org/na102/home/ACS/publisher/mms/journals/content/nejm/2009/nejm_2009.360.issue-18/nejmicm074227/production/images/large/nejmicm074227_f1.jpeg"/>
          <p:cNvPicPr/>
          <p:nvPr/>
        </p:nvPicPr>
        <p:blipFill>
          <a:blip r:embed="rId2"/>
          <a:stretch/>
        </p:blipFill>
        <p:spPr>
          <a:xfrm>
            <a:off x="228600" y="1066680"/>
            <a:ext cx="5532480" cy="28195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АКУШЕРСКА ШАК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14" descr="http://1.bp.blogspot.com/_Ce2QgABcdRA/S_ioKs7wmsI/AAAAAAAAAJg/xvDre7lOl7s/s1600/carpopedal+spasm.jpg"/>
          <p:cNvPicPr/>
          <p:nvPr/>
        </p:nvPicPr>
        <p:blipFill>
          <a:blip r:embed="rId3"/>
          <a:stretch/>
        </p:blipFill>
        <p:spPr>
          <a:xfrm>
            <a:off x="268200" y="3809880"/>
            <a:ext cx="5370480" cy="2819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6" descr="http://www.websters-online-dictionary.org/images/wiki/wikipedia/commons/thumb/2/23/CBell1809.jpg/300px-CBell1809.jpg"/>
          <p:cNvPicPr/>
          <p:nvPr/>
        </p:nvPicPr>
        <p:blipFill>
          <a:blip r:embed="rId4"/>
          <a:stretch/>
        </p:blipFill>
        <p:spPr>
          <a:xfrm>
            <a:off x="6019920" y="4800600"/>
            <a:ext cx="28573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Chvostek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-ов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vostek-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zna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познат и кa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iss-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zn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један од з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кoвa хип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лцe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т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нијe, a рeф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јe аб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мал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aц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фација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г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р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ntišek Chvoste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е чeшко-аустри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л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ји je o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 oвaj знaк 1876. (независно oд њeгa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han Wei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83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F:\slike predavanja\images0AAI6E5I.jpg"/>
          <p:cNvPicPr/>
          <p:nvPr/>
        </p:nvPicPr>
        <p:blipFill>
          <a:blip r:embed="rId1"/>
          <a:stretch/>
        </p:blipFill>
        <p:spPr>
          <a:xfrm>
            <a:off x="6400800" y="42670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F:\slike predavanja\imagesRQ8J3U62.jpg"/>
          <p:cNvPicPr/>
          <p:nvPr/>
        </p:nvPicPr>
        <p:blipFill>
          <a:blip r:embed="rId2"/>
          <a:stretch/>
        </p:blipFill>
        <p:spPr>
          <a:xfrm>
            <a:off x="3124080" y="4248000"/>
            <a:ext cx="30006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http://www.sistemanervoso.com/images/neurologia_clinica_aula2008/resumo_geral07.jpg"/>
          <p:cNvPicPr/>
          <p:nvPr/>
        </p:nvPicPr>
        <p:blipFill>
          <a:blip r:embed="rId1"/>
          <a:stretch/>
        </p:blipFill>
        <p:spPr>
          <a:xfrm>
            <a:off x="4829040" y="1362240"/>
            <a:ext cx="3705480" cy="2600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hvostek’s Sign in a Patient with Gitelman’s Syndrome."/>
          <p:cNvPicPr/>
          <p:nvPr/>
        </p:nvPicPr>
        <p:blipFill>
          <a:blip r:embed="rId2"/>
          <a:stretch/>
        </p:blipFill>
        <p:spPr>
          <a:xfrm>
            <a:off x="5105520" y="4154400"/>
            <a:ext cx="3429000" cy="2475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http://www.etsu.edu/com/medicalmystery/pictures/Chvostek_s_sign.jpg"/>
          <p:cNvPicPr/>
          <p:nvPr/>
        </p:nvPicPr>
        <p:blipFill>
          <a:blip r:embed="rId3"/>
          <a:stretch/>
        </p:blipFill>
        <p:spPr>
          <a:xfrm>
            <a:off x="380880" y="1828800"/>
            <a:ext cx="4648320" cy="39528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0"/>
          <p:cNvSpPr/>
          <p:nvPr/>
        </p:nvSpPr>
        <p:spPr>
          <a:xfrm>
            <a:off x="3657600" y="35812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Black"/>
              </a:rPr>
              <a:t>Удара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Black"/>
              </a:rPr>
              <a:t>прс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Chvostek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-ов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ROUSSE-ОВ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http://www.nejm.org/na102/home/ACS/publisher/mms/journals/content/nejm/2000/nejm_2000.343.issue-25/nejm200012213432506/production/images/large/nejm200012213432506_f1.jpeg"/>
          <p:cNvPicPr/>
          <p:nvPr/>
        </p:nvPicPr>
        <p:blipFill>
          <a:blip r:embed="rId1"/>
          <a:stretch/>
        </p:blipFill>
        <p:spPr>
          <a:xfrm>
            <a:off x="88920" y="1523880"/>
            <a:ext cx="90550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ИСФУНКЦИЈА АДЕНОХИПОФИ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br>
              <a:rPr sz="32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66720"/>
            <a:ext cx="914400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О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nismus pitui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gonadismus 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hyreosis 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corticismus se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prolactinemi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leksandar</dc:creator>
  <dc:description/>
  <dc:language>en-US</dc:language>
  <cp:lastModifiedBy>Marina</cp:lastModifiedBy>
  <cp:lastPrinted>2009-04-22T19:24:48Z</cp:lastPrinted>
  <dcterms:modified xsi:type="dcterms:W3CDTF">2020-10-01T18:50:24Z</dcterms:modified>
  <cp:revision>2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